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DC816-7B6E-4172-A8E4-A4319A40B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6E22D-E8AC-495F-9754-53733C384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026EB-6B0E-44F9-9264-6430C8275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8327E-A212-45B2-BDC8-C5723D77F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2C551-66E1-461B-8000-CC0AF8CDA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A1BBB-D2EF-4BC4-983A-C0541DDB9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8C8D7-3000-43F9-9716-4D81ED639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A3DE9-D018-4D28-99BB-2B7F61EF3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D9B5E-984C-4590-9688-3EE872663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D15C8-4470-47E5-80D3-E319D68F0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6CBB1-25A9-4D71-82B2-F59DB972C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EA3C3-90BC-4277-98F7-270586085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D83AF-B03F-4489-91C1-4A8DB58170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vement</a:t>
            </a:r>
            <a:endParaRPr b="0" lang="en-US" sz="3600" spc="-1" strike="noStrike">
              <a:solidFill>
                <a:srgbClr val="000000"/>
              </a:solidFill>
              <a:latin typeface="Calibri"/>
            </a:endParaRPr>
          </a:p>
        </p:txBody>
      </p:sp>
      <p:sp>
        <p:nvSpPr>
          <p:cNvPr id="42" name=""/>
          <p:cNvSpPr txBox="1"/>
          <p:nvPr/>
        </p:nvSpPr>
        <p:spPr>
          <a:xfrm>
            <a:off x="152280" y="837720"/>
            <a:ext cx="8839440" cy="5867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re are three systems that function to move the body. The muscular, skeletal and nervous systems interact to move the body. Movement is provided by fibers of skeletal muscle cells within the muscles of the muscular system. Muscles are attached to, and move the bones of the skeletal system.  Muscles are controlled by nervous impulses that originate in the brain and travel through nerves in the nervous system. Through the interactions of these systems the body is able to fight or run from dang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51920"/>
            <a:ext cx="88394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Barrier of Protection</a:t>
            </a:r>
            <a:endParaRPr b="0" lang="en-US" sz="3600" spc="-1" strike="noStrike">
              <a:solidFill>
                <a:srgbClr val="000000"/>
              </a:solidFill>
              <a:latin typeface="Calibri"/>
            </a:endParaRPr>
          </a:p>
        </p:txBody>
      </p:sp>
      <p:sp>
        <p:nvSpPr>
          <p:cNvPr id="44" name=""/>
          <p:cNvSpPr txBox="1"/>
          <p:nvPr/>
        </p:nvSpPr>
        <p:spPr>
          <a:xfrm>
            <a:off x="152280" y="837720"/>
            <a:ext cx="8839440" cy="58676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re are three systems that function to provide a barrier of protection. The integumentary, muscular, and skeletal systems interact to protect the body.  The first barrier is our integumentary system or our skin. The skin contains melanin proteins that block harmful ultraviolet radiation. Along with the skin and muscles, the skeleton protects internal organs.  The rib cage protects the heart and lungs, and the skull protects the brain. Together skin, muscles and bone create a barrier between the body’s internal environment and the outside wor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76320"/>
            <a:ext cx="88394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ghting Infection Part I</a:t>
            </a:r>
            <a:endParaRPr b="0" lang="en-US" sz="3600" spc="-1" strike="noStrike">
              <a:solidFill>
                <a:srgbClr val="000000"/>
              </a:solidFill>
              <a:latin typeface="Calibri"/>
            </a:endParaRPr>
          </a:p>
        </p:txBody>
      </p:sp>
      <p:sp>
        <p:nvSpPr>
          <p:cNvPr id="46" name=""/>
          <p:cNvSpPr txBox="1"/>
          <p:nvPr/>
        </p:nvSpPr>
        <p:spPr>
          <a:xfrm>
            <a:off x="152280" y="609120"/>
            <a:ext cx="8839440" cy="57913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immune system functions to fight infection through the production of cells that destroy pathogens or disease causing agents . The skin acts as your body’s first line of defense and is the most important nonspecific defense. Very few pathogens are able to penetrate the layers of dead skin that cover our bodies. The problem is when these layers are broken and the internal layers of skin are exposed to possible pathogens. If a pathogen does infect or enter the body, then an inflammatory response occurs. Basically the blood vessels in the area of infection open as wide as possible. This brings more blood to the area causing the redness you typically see at the point of infection. The blood carries millions of white blood cells which destroy pathogens before they can spread.</a:t>
            </a:r>
            <a:endParaRPr b="0" lang="en-US" sz="28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76320"/>
            <a:ext cx="88394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ghting Infection Part II</a:t>
            </a:r>
            <a:endParaRPr b="0" lang="en-US" sz="3600" spc="-1" strike="noStrike">
              <a:solidFill>
                <a:srgbClr val="000000"/>
              </a:solidFill>
              <a:latin typeface="Calibri"/>
            </a:endParaRPr>
          </a:p>
        </p:txBody>
      </p:sp>
      <p:sp>
        <p:nvSpPr>
          <p:cNvPr id="48" name=""/>
          <p:cNvSpPr txBox="1"/>
          <p:nvPr/>
        </p:nvSpPr>
        <p:spPr>
          <a:xfrm>
            <a:off x="152280" y="685440"/>
            <a:ext cx="8839440" cy="57913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If an infection cannot be stopped the immune system responds with a series of specific defenses that target and attack specific cells in the body. A pathogen, such as a virus or bacteria, have specific proteins surrounding them, and these proteins, called antigens, can be used to detect the pathogen. White blood cells that are capable of detecting antigens are called B cells. When a pathogen invades the body their antigens are only detected by very few of the B cells. Once they are detected, those B cells will divide rapidly producing large numbers of B cells that can detect the pathogen. Those B cells release antibodies that can detect the pathogen. Antibodies are proteins that recognize and attack cells with a certain antigen.  Once an infection has occurred the antibodies remain preventing more infections in the futu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5T20:42:46Z</dcterms:created>
  <dc:creator>Chris</dc:creator>
  <dc:description/>
  <dc:language>en-US</dc:language>
  <cp:lastModifiedBy>Chris</cp:lastModifiedBy>
  <dcterms:modified xsi:type="dcterms:W3CDTF">2010-07-16T20:07:41Z</dcterms:modified>
  <cp:revision>15</cp:revision>
  <dc:subject/>
  <dc:title>Systems that Interact to Defend the Body</dc:title>
</cp:coreProperties>
</file>